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5028-2485-47F5-A2BA-851EA496CA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632C-3864-45E3-82CD-29ED707C46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C91-F98C-4AF5-A6DD-DF32843E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EAA-378A-4E19-A5DB-D37DD594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D33-3D79-4538-BC8A-937C2AFF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402-BCE4-41A6-A753-39C529EC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9463-D28A-4F19-8BA9-3D13B3D7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873-7581-4A92-B8D2-30188160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CEE6-5B31-4596-8518-21A7041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7A4D-9A35-433A-AC55-A64EF86C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A5AD-CE5D-4A12-9632-39C51532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3C71-BCC2-4938-809D-B3E98D56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409C-1F49-41AF-BC37-626EAD2E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5D7-AF47-4E7A-8BD9-7997017E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4628-2C74-479F-BD20-3492C92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26AA-7A74-44FC-A6DC-F10B1D4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492-1784-4655-80F0-9CBC7E58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4F19-15A1-45F8-A9A1-CDE0CE5D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30E6-3F04-4847-B669-39B50410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1D5-9C4B-43F2-9791-747F76B2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C63-4BD5-4ECD-884B-A3E0D660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004-A2C0-4508-AAF6-FCDD37A4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404-0481-4420-8987-8ADA6AD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EFE-43F3-4B53-AF2D-5F883FD7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BB5-9C6D-43BF-8519-A77FA8C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429-A8E7-435E-89F0-62285D72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E31A-4A87-4EE0-8C77-5229494FCB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1A6A-4191-4D53-B571-57C09FB661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xashistory.unt.edu/ark:/67531/metapth16459/?q=native%20America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kcNbP3MjwE&amp;feature=related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youtube.com/watch?v=lTK4XiWqYi0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oom211.wikispaces.com/supersonic+Klickitat+and+Hoh+Indian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native-american"/>
          <p:cNvPicPr/>
          <p:nvPr/>
        </p:nvPicPr>
        <p:blipFill>
          <a:blip r:embed="rId1"/>
          <a:stretch/>
        </p:blipFill>
        <p:spPr>
          <a:xfrm>
            <a:off x="3429000" y="1752480"/>
            <a:ext cx="405936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838080" y="228600"/>
            <a:ext cx="683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American Indians in Texas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An Overvie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76840" y="2362320"/>
            <a:ext cx="30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d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arankaw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um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4" descr="papoo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1447920"/>
            <a:ext cx="218916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MS900054266[1].mid" descr=""/>
          <p:cNvPicPr/>
          <p:nvPr/>
        </p:nvPicPr>
        <p:blipFill>
          <a:blip r:embed="rId4"/>
          <a:stretch/>
        </p:blipFill>
        <p:spPr>
          <a:xfrm>
            <a:off x="8610480" y="6222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7426440" y="4578480"/>
            <a:ext cx="123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534520" y="6222960"/>
            <a:ext cx="380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F63-363C-4850-8C65-34B804890D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4000" y="6578640"/>
            <a:ext cx="15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 Aigner -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94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ad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66680"/>
            <a:ext cx="4314600" cy="4648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38080" y="228600"/>
            <a:ext cx="68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Caddo (Plains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165640" y="1403280"/>
            <a:ext cx="3521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coastal pla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farming-ate fruits, vegetables and gra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Grass Huts made out of wooden frames and dry gra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ed together as a confedera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led “mound builders”, made pottery, moved to Oklahoma, Gave Texas its na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304920" y="5867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ddo Tribal Song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2999-432D-4566-9BB8-C51DDA9744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143000" y="6221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mano Tribe Trib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ounded Rectangle 5">
            <a:hlinkClick r:id="rId3"/>
          </p:cNvPr>
          <p:cNvSpPr/>
          <p:nvPr/>
        </p:nvSpPr>
        <p:spPr>
          <a:xfrm>
            <a:off x="3486240" y="6262560"/>
            <a:ext cx="304560" cy="266760"/>
          </a:xfrm>
          <a:prstGeom prst="roundRect">
            <a:avLst>
              <a:gd name="adj" fmla="val 16667"/>
            </a:avLst>
          </a:prstGeom>
          <a:solidFill>
            <a:srgbClr val="ff474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790800" y="6303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lick on shap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old-dugout-cano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3444840" cy="5181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762120" y="228600"/>
            <a:ext cx="7296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Karankawa (Pueblo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1600200"/>
            <a:ext cx="35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coastal plains near the Gul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fishing-ate fish, shellfish, and small anim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Wood Framed Homes with woven grass wa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d appointed chiefs to lead vill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ads, made dugout canoes, died out from European disea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5834160" y="6357960"/>
            <a:ext cx="22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490C-E615-4386-845B-3EEB613BEE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jumano-indians-200X200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838080" y="228600"/>
            <a:ext cx="683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Jumano (Pueblo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257800" y="1981080"/>
            <a:ext cx="352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mountains near the Rio Grande Riv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farming-ate dried corn, squash and be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Adobe Pueb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village had a leader with its own gover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oked using a hollow gourd, traded with other tri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752480" y="6097680"/>
            <a:ext cx="221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62B9-987A-4126-B59E-EFE0299764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nelsonapaches-crop"/>
          <p:cNvPicPr/>
          <p:nvPr/>
        </p:nvPicPr>
        <p:blipFill>
          <a:blip r:embed="rId1"/>
          <a:stretch/>
        </p:blipFill>
        <p:spPr>
          <a:xfrm>
            <a:off x="3733920" y="2057400"/>
            <a:ext cx="5410080" cy="2954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800" y="2286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Lipan Apache (Plains Group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28600" y="1905120"/>
            <a:ext cx="3521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he South Texas pla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t their food by hunting- ate buffa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ved in teep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hief led the trib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ads, made pottery, moved to reservation in early 1900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867280" y="5033880"/>
            <a:ext cx="221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AC25-FB2B-4099-B5CE-2AA525F877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1930320" y="5464080"/>
            <a:ext cx="304920" cy="265320"/>
          </a:xfrm>
          <a:prstGeom prst="roundRect">
            <a:avLst>
              <a:gd name="adj" fmla="val 16667"/>
            </a:avLst>
          </a:prstGeom>
          <a:solidFill>
            <a:srgbClr val="ff474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58840" y="5411880"/>
            <a:ext cx="16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pan War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162080" y="228600"/>
            <a:ext cx="683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American Indians in Texas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438280" y="54864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erican Indians are the ancestors of our country and our state.  What can we take away from their lives to apply to our ow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9" descr="1178757_370"/>
          <p:cNvPicPr/>
          <p:nvPr/>
        </p:nvPicPr>
        <p:blipFill>
          <a:blip r:embed="rId1"/>
          <a:stretch/>
        </p:blipFill>
        <p:spPr>
          <a:xfrm>
            <a:off x="1752480" y="990720"/>
            <a:ext cx="5334120" cy="4162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0"/>
          <p:cNvSpPr/>
          <p:nvPr/>
        </p:nvSpPr>
        <p:spPr>
          <a:xfrm rot="19185000">
            <a:off x="508680" y="537444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nk about i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3666960" y="52102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on pi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829E-6407-4BB5-BE7F-883EE652D1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3:31:12Z</dcterms:created>
  <dc:creator>Internal User</dc:creator>
  <dc:description/>
  <dc:language>en-US</dc:language>
  <cp:lastModifiedBy>Owner</cp:lastModifiedBy>
  <dcterms:modified xsi:type="dcterms:W3CDTF">2013-10-05T13:14:32Z</dcterms:modified>
  <cp:revision>16</cp:revision>
  <dc:subject/>
  <dc:title>Slide 1</dc:title>
</cp:coreProperties>
</file>